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FC0F4-8486-4A73-AE31-17672284B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99CFF-53FD-4DA1-8557-7CF353489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D0185-D8B1-4523-837A-D4FE64B74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DFF61-2B16-4C62-AEC9-3A8B4DB22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1340E-2093-465B-AF1F-F1A65B856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6A503-C3DC-4051-95DD-CB59B3FCA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BE000-B3EF-4C21-8E38-B6C28A184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D37E0-1C5A-4B43-BF24-7359EAE68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29376-3406-41FE-976F-F6E3D3077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53E6B-7C0A-4C2B-A343-A7BC9A3E6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77B4C-3BF6-4FEF-B022-8BEBABCA0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270B2-2CFA-4B6E-AB03-B1AFAD9BB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FC916-6CCE-490C-B810-0B345BD2C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8C210-96BF-42C7-B35C-4F09AFF43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66A83-7B10-4BF2-8886-3F5EB78CA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C892C-B22F-4433-A2F6-18E728C4C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E1CFF-FC70-46DF-81D2-43DD862E0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F270C-134E-4B69-9BA0-D1D1532F4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79513-A936-4A6A-87F3-2FE9985E9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D1BB1-AC63-43C1-A6E7-A83D1F3C8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A6CA-C04E-4BBF-9703-0FE47F271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E427-337A-4B70-AA72-03BC35CF7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81DBA-322D-40CA-846D-5790CE789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Elepha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EA373-5713-4E15-9394-17ED55CD1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1501-0A0A-48DB-803C-F34E6F587A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Click to edit the outline text format</a:t>
            </a:r>
            <a:endParaRPr b="0" lang="en-US" sz="3200" spc="-1" strike="noStrike">
              <a:solidFill>
                <a:srgbClr val="ff6600"/>
              </a:solidFill>
              <a:latin typeface="Elephant"/>
            </a:endParaRPr>
          </a:p>
          <a:p>
            <a:pPr lvl="1" marL="743040" indent="-28584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cond Outline Level</a:t>
            </a:r>
            <a:endParaRPr b="0" lang="en-US" sz="3200" spc="-1" strike="noStrike">
              <a:solidFill>
                <a:srgbClr val="ff6600"/>
              </a:solidFill>
              <a:latin typeface="Elephant"/>
            </a:endParaRPr>
          </a:p>
          <a:p>
            <a:pPr lvl="2" marL="11430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Third Outline Level</a:t>
            </a:r>
            <a:endParaRPr b="0" lang="en-US" sz="3200" spc="-1" strike="noStrike">
              <a:solidFill>
                <a:srgbClr val="ff6600"/>
              </a:solidFill>
              <a:latin typeface="Elephant"/>
            </a:endParaRPr>
          </a:p>
          <a:p>
            <a:pPr lvl="3" marL="16002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ourth Outline Level</a:t>
            </a:r>
            <a:endParaRPr b="0" lang="en-US" sz="3200" spc="-1" strike="noStrike">
              <a:solidFill>
                <a:srgbClr val="ff6600"/>
              </a:solidFill>
              <a:latin typeface="Elephant"/>
            </a:endParaRPr>
          </a:p>
          <a:p>
            <a:pPr lvl="4" marL="2057400" indent="-228600">
              <a:spcBef>
                <a:spcPts val="799"/>
              </a:spcBef>
              <a:buClr>
                <a:srgbClr val="ff66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Fifth Outline Level</a:t>
            </a:r>
            <a:endParaRPr b="0" lang="en-US" sz="3200" spc="-1" strike="noStrike">
              <a:solidFill>
                <a:srgbClr val="ff6600"/>
              </a:solidFill>
              <a:latin typeface="Elephant"/>
            </a:endParaRPr>
          </a:p>
          <a:p>
            <a:pPr lvl="5"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ixth Outline Level</a:t>
            </a:r>
            <a:endParaRPr b="0" lang="en-US" sz="3200" spc="-1" strike="noStrike">
              <a:solidFill>
                <a:srgbClr val="ff6600"/>
              </a:solidFill>
              <a:latin typeface="Elephant"/>
            </a:endParaRPr>
          </a:p>
          <a:p>
            <a:pPr lvl="6" marL="2057400" indent="-228600">
              <a:spcBef>
                <a:spcPts val="799"/>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Elephant"/>
              </a:rPr>
              <a:t>Seventh Outline Level</a:t>
            </a:r>
            <a:endParaRPr b="0" lang="en-US" sz="3200" spc="-1" strike="noStrike">
              <a:solidFill>
                <a:srgbClr val="ff6600"/>
              </a:solidFill>
              <a:latin typeface="Elephant"/>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3B06-A612-4ECD-B68C-389AB7EC37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990720" y="0"/>
            <a:ext cx="7467480" cy="7467480"/>
          </a:xfrm>
          <a:prstGeom prst="rect">
            <a:avLst/>
          </a:prstGeom>
          <a:ln w="0">
            <a:noFill/>
          </a:ln>
        </p:spPr>
      </p:pic>
      <p:sp>
        <p:nvSpPr>
          <p:cNvPr id="83" name="PlaceHolder 1"/>
          <p:cNvSpPr>
            <a:spLocks noGrp="1"/>
          </p:cNvSpPr>
          <p:nvPr>
            <p:ph type="title"/>
          </p:nvPr>
        </p:nvSpPr>
        <p:spPr>
          <a:xfrm>
            <a:off x="685800" y="175212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Elephant"/>
              </a:rPr>
              <a:t>NEIU ~ NASA </a:t>
            </a:r>
            <a:br>
              <a:rPr sz="4000"/>
            </a:br>
            <a:r>
              <a:rPr b="1" lang="en-US" sz="4000" spc="-1" strike="noStrike">
                <a:solidFill>
                  <a:srgbClr val="ffffcc"/>
                </a:solidFill>
                <a:latin typeface="Elephant"/>
              </a:rPr>
              <a:t>Endeavour Program</a:t>
            </a:r>
            <a:br>
              <a:rPr sz="4000"/>
            </a:br>
            <a:r>
              <a:rPr b="1" lang="en-US" sz="4000" spc="-1" strike="noStrike">
                <a:solidFill>
                  <a:srgbClr val="ffffcc"/>
                </a:solidFill>
                <a:latin typeface="Elephant"/>
              </a:rPr>
              <a:t>2009 ~ 20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tting Ready!</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ggy Maher, NASA Goddard Space Flight Center - Aerospace Education Specia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685800" y="45684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Pristina"/>
              </a:rPr>
              <a:t>Questions???  </a:t>
            </a:r>
            <a:r>
              <a:rPr b="1" lang="en-US" sz="9600" spc="-1" strike="noStrike">
                <a:solidFill>
                  <a:srgbClr val="ffff00"/>
                </a:solidFill>
                <a:latin typeface="Wingdings"/>
                <a:ea typeface="Wingdings"/>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lum bright="-20000"/>
          </a:blip>
          <a:stretch/>
        </p:blipFill>
        <p:spPr>
          <a:xfrm>
            <a:off x="2514600" y="228600"/>
            <a:ext cx="4259160" cy="64911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lephant"/>
              </a:rPr>
              <a:t>WELCOME TO THE NEIU</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INTRODUCTIONS</a:t>
            </a:r>
            <a:endParaRPr b="0" lang="en-US" sz="2400" spc="-1" strike="noStrike">
              <a:solidFill>
                <a:srgbClr val="000000"/>
              </a:solidFill>
              <a:latin typeface="Arial"/>
            </a:endParaRPr>
          </a:p>
          <a:p>
            <a:pPr marL="609480" indent="-609480">
              <a:lnSpc>
                <a:spcPct val="90000"/>
              </a:lnSpc>
              <a:spcBef>
                <a:spcPts val="601"/>
              </a:spcBef>
              <a:buClr>
                <a:srgbClr val="ffffff"/>
              </a:buClr>
              <a:buFont typeface="Elephan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LOGISTIC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88"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  Attentive and Prepared</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ugh this program, we are working to blend challenging learning with fun activities.  To this end, it is important that all are attentive and prepared throughout the NEIU NASA Endeavour Program.</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1"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Teacher Supervision</a:t>
            </a:r>
            <a:endParaRPr b="0" lang="en-US" sz="3200" spc="-1" strike="noStrike">
              <a:solidFill>
                <a:srgbClr val="000000"/>
              </a:solidFill>
              <a:latin typeface="Arial"/>
            </a:endParaRPr>
          </a:p>
          <a:p>
            <a:pPr marL="609480" indent="-60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dents must be accompanied by teachers at all times.  If a student wishes to be excused for a snack, beverage, or restroom break, they must seek the permission of their teacher before leaving the large group.  If student teams wish to use the computer lab facility, they must be accompanied by their teacher. </a:t>
            </a:r>
            <a:endParaRPr b="0" lang="en-US" sz="32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4"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  Performance Expectation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will remain the primary responsibility of the teacher to facilitate learning activities with the school team.  Each teacher will work closely with their student teams.  Please establish consistent performance expectations for your school team.  Make sure that our standards remain high!</a:t>
            </a:r>
            <a:endParaRPr b="0" lang="en-US" sz="3200" spc="-1" strike="noStrike">
              <a:solidFill>
                <a:srgbClr val="000000"/>
              </a:solidFill>
              <a:latin typeface="Arial"/>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97"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Models of Learning Procedure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NEIU ~ NASA Endeavour Program is meant to be an positive learning experience for all and therefore we ask that you model learning procedures that will support the team to be successful as they work through this learning proces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0"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Exemplary Work</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you notice exemplary work by a student or a teacher throughout the Endeavour Program, please let us know!  We will highlight positive performance throughout the ye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lum bright="-18000"/>
          </a:blip>
          <a:stretch/>
        </p:blipFill>
        <p:spPr>
          <a:xfrm>
            <a:off x="2209680" y="0"/>
            <a:ext cx="4484880" cy="6858000"/>
          </a:xfrm>
          <a:prstGeom prst="rect">
            <a:avLst/>
          </a:prstGeom>
          <a:ln w="9360">
            <a:solidFill>
              <a:srgbClr val="000000"/>
            </a:solidFill>
            <a:miter/>
          </a:ln>
        </p:spPr>
      </p:pic>
      <p:sp>
        <p:nvSpPr>
          <p:cNvPr id="103" name="PlaceHolder 1"/>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6)  NEIU NASA Endeavour Program Success</a:t>
            </a:r>
            <a:endParaRPr b="0" lang="en-US" sz="3200" spc="-1" strike="noStrike">
              <a:solidFill>
                <a:srgbClr val="0000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uccess of our program depends upon the success of our students and teachers.  We will maintain the highest level of professionalism throughout this program!</a:t>
            </a:r>
            <a:endParaRPr b="0" lang="en-US" sz="32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Your Team!</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ughout this school year, you will work as a team to explore </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ientific phenomenon</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SA Missions that explore the univers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a outreach product to educate others about NASA and the work that they do to advance our understanding of the univer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01:16:17Z</dcterms:created>
  <dc:creator>NEIU</dc:creator>
  <dc:description/>
  <dc:language>en-US</dc:language>
  <cp:lastModifiedBy>sweiland</cp:lastModifiedBy>
  <dcterms:modified xsi:type="dcterms:W3CDTF">2009-10-19T09:40:06Z</dcterms:modified>
  <cp:revision>12</cp:revision>
  <dc:subject/>
  <dc:title>Slide 1</dc:title>
</cp:coreProperties>
</file>